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1314113" cy="8002588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824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5128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56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824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5128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82640" y="206280"/>
            <a:ext cx="895824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0824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5128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56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0824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45128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82640" y="206280"/>
            <a:ext cx="895824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9000" y="2044800"/>
            <a:ext cx="10937880" cy="4800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9000" y="7068960"/>
            <a:ext cx="10937880" cy="67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אחים פולק בע"מ - המפלסים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"/>
              </a:rPr>
              <a:t>, קריית אריה - פ"ת, טל':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"/>
              </a:rPr>
              <a:t>03-9100333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84400"/>
            <a:ext cx="10937880" cy="666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2640" y="206280"/>
            <a:ext cx="8958240" cy="865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200" spc="-1" strike="noStrike" u="sng">
                <a:solidFill>
                  <a:srgbClr val="002c6a"/>
                </a:solidFill>
                <a:uFillTx/>
                <a:latin typeface="Arial"/>
              </a:rPr>
              <a:t>Click to edit the title text format</a:t>
            </a: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30040">
              <a:buClr>
                <a:srgbClr val="ff9b6e"/>
              </a:buClr>
              <a:buSzPct val="80000"/>
              <a:buFont typeface="Wingdings" charset="2"/>
              <a:buChar char="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30040">
              <a:buClr>
                <a:srgbClr val="ff9b6e"/>
              </a:buClr>
              <a:buSzPct val="80000"/>
              <a:buFont typeface="Wingdings" charset="2"/>
              <a:buChar char="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906480" indent="-219240">
              <a:buClr>
                <a:srgbClr val="ff9b6e"/>
              </a:buClr>
              <a:buSzPct val="80000"/>
              <a:buFont typeface="Wingdings" charset="2"/>
              <a:buChar char="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9480" indent="-241560">
              <a:buClr>
                <a:srgbClr val="ff9b6e"/>
              </a:buClr>
              <a:buSzPct val="80000"/>
              <a:buFont typeface="Wingdings" charset="2"/>
              <a:buChar char="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9480" indent="-24156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9480" indent="-24156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6920" y="2409840"/>
            <a:ext cx="8958600" cy="13334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6900" spc="-1" strike="noStrike" u="sng">
                <a:solidFill>
                  <a:srgbClr val="002c6a"/>
                </a:solidFill>
                <a:uFillTx/>
                <a:latin typeface="Arial"/>
              </a:rPr>
              <a:t>Click to edit the title text format</a:t>
            </a:r>
            <a:endParaRPr b="1" lang="en-US" sz="69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068960"/>
            <a:ext cx="10937880" cy="67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9000" y="266760"/>
            <a:ext cx="10937880" cy="62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560" y="442800"/>
            <a:ext cx="9618480" cy="86040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e-IL" sz="2200" spc="-1" strike="noStrike" u="sng">
                <a:solidFill>
                  <a:srgbClr val="002c6a"/>
                </a:solidFill>
                <a:uFillTx/>
                <a:latin typeface="Arial"/>
              </a:rPr>
              <a:t>עקרון עבודה של משאבות ואקום מסוג טבעת מים</a:t>
            </a: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20880" y="2232000"/>
            <a:ext cx="2403360" cy="2403360"/>
            <a:chOff x="920880" y="2232000"/>
            <a:chExt cx="2403360" cy="2403360"/>
          </a:xfrm>
        </p:grpSpPr>
        <p:grpSp>
          <p:nvGrpSpPr>
            <p:cNvPr id="82" name=""/>
            <p:cNvGrpSpPr/>
            <p:nvPr/>
          </p:nvGrpSpPr>
          <p:grpSpPr>
            <a:xfrm>
              <a:off x="920880" y="2232000"/>
              <a:ext cx="2403360" cy="2403360"/>
              <a:chOff x="920880" y="2232000"/>
              <a:chExt cx="2403360" cy="2403360"/>
            </a:xfrm>
          </p:grpSpPr>
          <p:sp>
            <p:nvSpPr>
              <p:cNvPr id="83" name=""/>
              <p:cNvSpPr/>
              <p:nvPr/>
            </p:nvSpPr>
            <p:spPr>
              <a:xfrm>
                <a:off x="920880" y="2232000"/>
                <a:ext cx="2403360" cy="240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920880" y="2346120"/>
                <a:ext cx="2403360" cy="2288880"/>
                <a:chOff x="920880" y="2346120"/>
                <a:chExt cx="2403360" cy="2288880"/>
              </a:xfrm>
            </p:grpSpPr>
            <p:sp>
              <p:nvSpPr>
                <p:cNvPr id="85" name=""/>
                <p:cNvSpPr/>
                <p:nvPr/>
              </p:nvSpPr>
              <p:spPr>
                <a:xfrm flipV="1">
                  <a:off x="920880" y="2346120"/>
                  <a:ext cx="2403360" cy="22888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1454760" y="3490920"/>
                  <a:ext cx="1335240" cy="6357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1263960" y="2575080"/>
              <a:ext cx="1716480" cy="1716480"/>
              <a:chOff x="1263960" y="2575080"/>
              <a:chExt cx="1716480" cy="1716480"/>
            </a:xfrm>
          </p:grpSpPr>
          <p:sp>
            <p:nvSpPr>
              <p:cNvPr id="88" name=""/>
              <p:cNvSpPr/>
              <p:nvPr/>
            </p:nvSpPr>
            <p:spPr>
              <a:xfrm>
                <a:off x="2064960" y="2575080"/>
                <a:ext cx="114120" cy="1716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63960" y="3376080"/>
                <a:ext cx="1716480" cy="11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700000">
                <a:off x="2064960" y="2574720"/>
                <a:ext cx="114120" cy="1716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700000">
                <a:off x="1263240" y="3376440"/>
                <a:ext cx="1716480" cy="11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21520" y="3032640"/>
                <a:ext cx="801000" cy="8010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3206880" y="4332240"/>
            <a:ext cx="2400120" cy="2401920"/>
            <a:chOff x="3206880" y="4332240"/>
            <a:chExt cx="2400120" cy="2401920"/>
          </a:xfrm>
        </p:grpSpPr>
        <p:grpSp>
          <p:nvGrpSpPr>
            <p:cNvPr id="94" name=""/>
            <p:cNvGrpSpPr/>
            <p:nvPr/>
          </p:nvGrpSpPr>
          <p:grpSpPr>
            <a:xfrm>
              <a:off x="3206880" y="4332240"/>
              <a:ext cx="2400120" cy="2401920"/>
              <a:chOff x="3206880" y="4332240"/>
              <a:chExt cx="2400120" cy="2401920"/>
            </a:xfrm>
          </p:grpSpPr>
          <p:sp>
            <p:nvSpPr>
              <p:cNvPr id="95" name=""/>
              <p:cNvSpPr/>
              <p:nvPr/>
            </p:nvSpPr>
            <p:spPr>
              <a:xfrm>
                <a:off x="3206880" y="4332240"/>
                <a:ext cx="2400120" cy="240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06880" y="4332240"/>
                <a:ext cx="2400120" cy="2401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206880" y="4332240"/>
                <a:ext cx="2400120" cy="2401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549600" y="4675320"/>
              <a:ext cx="1714320" cy="1715760"/>
              <a:chOff x="3549600" y="4675320"/>
              <a:chExt cx="1714320" cy="1715760"/>
            </a:xfrm>
          </p:grpSpPr>
          <p:sp>
            <p:nvSpPr>
              <p:cNvPr id="99" name=""/>
              <p:cNvSpPr/>
              <p:nvPr/>
            </p:nvSpPr>
            <p:spPr>
              <a:xfrm>
                <a:off x="4349520" y="4675320"/>
                <a:ext cx="114120" cy="17157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49600" y="5475960"/>
                <a:ext cx="1714320" cy="11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700000">
                <a:off x="4349520" y="4675680"/>
                <a:ext cx="114120" cy="17143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700000">
                <a:off x="3548160" y="5475960"/>
                <a:ext cx="1715760" cy="11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006800" y="5132880"/>
                <a:ext cx="799920" cy="800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5630760" y="2206800"/>
            <a:ext cx="2397240" cy="2395440"/>
            <a:chOff x="5630760" y="2206800"/>
            <a:chExt cx="2397240" cy="2395440"/>
          </a:xfrm>
        </p:grpSpPr>
        <p:grpSp>
          <p:nvGrpSpPr>
            <p:cNvPr id="105" name=""/>
            <p:cNvGrpSpPr/>
            <p:nvPr/>
          </p:nvGrpSpPr>
          <p:grpSpPr>
            <a:xfrm>
              <a:off x="5630760" y="2206800"/>
              <a:ext cx="2397240" cy="2395440"/>
              <a:chOff x="5630760" y="2206800"/>
              <a:chExt cx="2397240" cy="239544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5630760" y="2206800"/>
                <a:ext cx="2397240" cy="2395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630760" y="2206800"/>
                <a:ext cx="2397240" cy="239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30760" y="2206800"/>
                <a:ext cx="2397240" cy="2395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973120" y="2777400"/>
              <a:ext cx="1712160" cy="1711080"/>
              <a:chOff x="5973120" y="2777400"/>
              <a:chExt cx="1712160" cy="171108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6771960" y="2777040"/>
                <a:ext cx="114120" cy="17110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973120" y="3576240"/>
                <a:ext cx="1712160" cy="1137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 rot="18900000">
                <a:off x="6772320" y="2776680"/>
                <a:ext cx="113400" cy="17121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 rot="18900000">
                <a:off x="5973120" y="3575520"/>
                <a:ext cx="1711080" cy="11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429600" y="3233880"/>
                <a:ext cx="798840" cy="7984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7989840" y="4328640"/>
            <a:ext cx="2397240" cy="2397600"/>
            <a:chOff x="7989840" y="4328640"/>
            <a:chExt cx="2397240" cy="2397600"/>
          </a:xfrm>
        </p:grpSpPr>
        <p:grpSp>
          <p:nvGrpSpPr>
            <p:cNvPr id="116" name=""/>
            <p:cNvGrpSpPr/>
            <p:nvPr/>
          </p:nvGrpSpPr>
          <p:grpSpPr>
            <a:xfrm>
              <a:off x="7989840" y="4328640"/>
              <a:ext cx="2397240" cy="2397600"/>
              <a:chOff x="7989840" y="4328640"/>
              <a:chExt cx="2397240" cy="239760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7989840" y="4328280"/>
                <a:ext cx="2397240" cy="2397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8372160" y="4659840"/>
                <a:ext cx="1695960" cy="1693080"/>
                <a:chOff x="8372160" y="4659840"/>
                <a:chExt cx="1695960" cy="1693080"/>
              </a:xfrm>
            </p:grpSpPr>
            <p:sp>
              <p:nvSpPr>
                <p:cNvPr id="119" name=""/>
                <p:cNvSpPr/>
                <p:nvPr/>
              </p:nvSpPr>
              <p:spPr>
                <a:xfrm flipH="1" flipV="1" rot="18832200">
                  <a:off x="8649000" y="4878360"/>
                  <a:ext cx="1141560" cy="12553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 rot="18832200">
                  <a:off x="9028080" y="5452200"/>
                  <a:ext cx="634320" cy="348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8457120" y="5216040"/>
                <a:ext cx="1042200" cy="965880"/>
                <a:chOff x="8457120" y="5216040"/>
                <a:chExt cx="1042200" cy="965880"/>
              </a:xfrm>
            </p:grpSpPr>
            <p:sp>
              <p:nvSpPr>
                <p:cNvPr id="122" name=""/>
                <p:cNvSpPr/>
                <p:nvPr/>
              </p:nvSpPr>
              <p:spPr>
                <a:xfrm flipV="1" rot="1445400">
                  <a:off x="8560440" y="5356080"/>
                  <a:ext cx="835560" cy="68472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 rot="1445400">
                  <a:off x="8706600" y="5690880"/>
                  <a:ext cx="464040" cy="190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 flipV="1">
                <a:off x="7989840" y="4328280"/>
                <a:ext cx="2397240" cy="239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89840" y="4329000"/>
                <a:ext cx="2397240" cy="2397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8674560" y="53557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8788680" y="546984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8788680" y="524160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8902800" y="53557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8332200" y="4899600"/>
              <a:ext cx="1712160" cy="1712160"/>
              <a:chOff x="8332200" y="4899600"/>
              <a:chExt cx="1712160" cy="1712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9131040" y="4899600"/>
                <a:ext cx="114120" cy="17121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8332200" y="5698440"/>
                <a:ext cx="1712160" cy="11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8900000">
                <a:off x="9131400" y="4899240"/>
                <a:ext cx="114120" cy="17121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8900000">
                <a:off x="8331480" y="5698080"/>
                <a:ext cx="1712160" cy="11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788680" y="5356080"/>
                <a:ext cx="798840" cy="7988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 flipH="1">
            <a:off x="1901880" y="3200400"/>
            <a:ext cx="433440" cy="225360"/>
          </a:xfrm>
          <a:custGeom>
            <a:avLst/>
            <a:gdLst>
              <a:gd name="textAreaLeft" fmla="*/ 96840 w 433440"/>
              <a:gd name="textAreaRight" fmla="*/ 293400 w 433440"/>
              <a:gd name="textAreaTop" fmla="*/ 30240 h 225360"/>
              <a:gd name="textAreaBottom" fmla="*/ 195120 h 22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2289556"/>
                <a:lnTo>
                  <a:pt x="20337" y="10919"/>
                </a:lnTo>
                <a:lnTo>
                  <a:pt x="19376" y="21600"/>
                </a:lnTo>
                <a:lnTo>
                  <a:pt x="15889" y="10919"/>
                </a:lnTo>
                <a:lnTo>
                  <a:pt x="18049" y="10919"/>
                </a:lnTo>
                <a:arcTo wR="9656" hR="21600" stAng="-3110444" swAng="-2279370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03880" y="5526000"/>
            <a:ext cx="1440" cy="2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2760" y="431280"/>
            <a:ext cx="7823160" cy="528840"/>
          </a:xfrm>
          <a:prstGeom prst="rect">
            <a:avLst/>
          </a:prstGeom>
          <a:noFill/>
          <a:ln w="0">
            <a:noFill/>
          </a:ln>
        </p:spPr>
        <p:txBody>
          <a:bodyPr lIns="0" rIns="110520" tIns="0" bIns="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e-IL" sz="2200" spc="-1" strike="noStrike" u="sng">
                <a:solidFill>
                  <a:srgbClr val="002c6a"/>
                </a:solidFill>
                <a:uFillTx/>
                <a:latin typeface="Arial"/>
              </a:rPr>
              <a:t>עקרון עבודה של משאבות ואקום מסוג טבעת מים</a:t>
            </a:r>
            <a:endParaRPr b="1" lang="en-US" sz="2200" spc="-1" strike="noStrike" u="sng">
              <a:solidFill>
                <a:srgbClr val="002c6a"/>
              </a:solidFill>
              <a:uFillTx/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24080" y="1413000"/>
            <a:ext cx="8115120" cy="5302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1:06:46Z</dcterms:created>
  <dc:creator>A&amp;D MK</dc:creator>
  <dc:description/>
  <cp:keywords/>
  <dc:language>en-US</dc:language>
  <cp:lastModifiedBy>moshe</cp:lastModifiedBy>
  <cp:lastPrinted>2002-11-14T15:50:47Z</cp:lastPrinted>
  <dcterms:modified xsi:type="dcterms:W3CDTF">2008-08-24T08:48:50Z</dcterms:modified>
  <cp:revision>113</cp:revision>
  <dc:subject/>
  <dc:title>A&amp;D Vorlage extern PPT97</dc:title>
</cp:coreProperties>
</file>